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1B6E-46AA-4503-B123-9A0653C5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9167-00B9-48E3-82A3-83D6FE06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53DE-6EDD-41F5-A0FE-AFE89541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9D3-3909-47B8-B0E8-002652C1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26BE-DB72-4463-A0BF-C0C6A7D5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DB4-8CB2-4629-BE42-9E04B68D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40C-09F9-4933-B3A2-1F4C73EE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898-BB72-41C4-82B0-C58AA0DC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2E79-E5B5-45D2-9B24-5AECCDD3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3763-0DC3-42BE-A5A3-EE48D90B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D890-8878-4A7F-BEE9-A66AC67D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0627-0BDE-4B0E-B576-B702E5EC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DF32-E1FB-4A24-8749-F622A63E8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ammar Topic 1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oiding Incomplete Sentences (also known as “fragments”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sent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4800600"/>
            <a:ext cx="8381880" cy="459720"/>
          </a:xfrm>
          <a:prstGeom prst="rect">
            <a:avLst/>
          </a:prstGeom>
          <a:noFill/>
          <a:ln w="54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AKE NOTES!  You will be QUIZZED on this materi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-228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entence is complete i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47560" y="762120"/>
            <a:ext cx="73911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You see a subject and a 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It expresses a complete thought (you are not left asking a ques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4495680"/>
            <a:ext cx="899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bject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what/whom the sentence is about </a:t>
            </a:r>
            <a:br>
              <a:rPr sz="36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usually a noun or a pronou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562720"/>
            <a:ext cx="899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erb: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plains the action or state of the su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895480"/>
            <a:ext cx="8001000" cy="121932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1 –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bo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ant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driv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2 –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rit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28600" y="1295280"/>
          <a:ext cx="8686440" cy="5248440"/>
        </p:xfrm>
        <a:graphic>
          <a:graphicData uri="http://schemas.openxmlformats.org/drawingml/2006/table">
            <a:tbl>
              <a:tblPr/>
              <a:tblGrid>
                <a:gridCol w="4343040"/>
                <a:gridCol w="4343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ragme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mplete Senten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te pancakes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Times New Roman"/>
                        </a:rPr>
                        <a:t>(missing a subject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Times New Roman"/>
                        </a:rPr>
                        <a:t>We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ate pancakes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 black cat </a:t>
                      </a: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Garamond"/>
                          <a:ea typeface="Times New Roman"/>
                        </a:rPr>
                        <a:t>(missing a verb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 black cat </a:t>
                      </a: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Garamond"/>
                          <a:ea typeface="Times New Roman"/>
                        </a:rPr>
                        <a:t>crossed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our path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Under the desk (missing a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Times New Roman"/>
                        </a:rPr>
                        <a:t>subject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and </a:t>
                      </a: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Garamond"/>
                          <a:ea typeface="Times New Roman"/>
                        </a:rPr>
                        <a:t>verb!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Under the desk,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Times New Roman"/>
                        </a:rPr>
                        <a:t>he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Garamond"/>
                          <a:ea typeface="Times New Roman"/>
                        </a:rPr>
                        <a:t>found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a book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60948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Look for the Subject + Ver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 for the subject and verb.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incomplete, fix the sent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. Molleur slept through her al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nt to the st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sh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t ran up th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t 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 up th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52280" y="1447920"/>
          <a:ext cx="8763120" cy="509112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ragme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mplete Senten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f  we ate pancakes </a:t>
                      </a: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Garamond"/>
                          <a:ea typeface="Times New Roman"/>
                        </a:rPr>
                        <a:t>(if so, then what?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f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we ate pancakes, </a:t>
                      </a: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Garamond"/>
                          <a:ea typeface="Times New Roman"/>
                        </a:rPr>
                        <a:t>we would be full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When a black cat crossed our path </a:t>
                      </a: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Garamond"/>
                          <a:ea typeface="Times New Roman"/>
                        </a:rPr>
                        <a:t>(what happened?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When a black cat crossed our path, </a:t>
                      </a: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Garamond"/>
                          <a:ea typeface="Times New Roman"/>
                        </a:rPr>
                        <a:t>we shivered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He found </a:t>
                      </a: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Garamond"/>
                          <a:ea typeface="Times New Roman"/>
                        </a:rPr>
                        <a:t>(he found what?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He found a </a:t>
                      </a:r>
                      <a:r>
                        <a:rPr b="0" lang="en-US" sz="3600" spc="-1" strike="noStrike">
                          <a:solidFill>
                            <a:srgbClr val="99cc00"/>
                          </a:solidFill>
                          <a:latin typeface="Garamond"/>
                          <a:ea typeface="Times New Roman"/>
                        </a:rPr>
                        <a:t>book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28600" y="45720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Make sure a complete thought (in other words, it doesn’t leave you asking questions.)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e sure the sentence does not leave you asking questions.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incomplete, fix the sent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orgot to re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finishing my homework 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ore was rob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running w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 sleeping under th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ing bec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he liked can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you see “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inc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 on your papers, it means you have an incomplete sentence (also known as a sentence fragme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03:48:45Z</dcterms:created>
  <dc:creator>Carolynn</dc:creator>
  <dc:description/>
  <dc:language>en-US</dc:language>
  <cp:lastModifiedBy>Carolynn</cp:lastModifiedBy>
  <dcterms:modified xsi:type="dcterms:W3CDTF">2008-08-28T17:38:32Z</dcterms:modified>
  <cp:revision>3</cp:revision>
  <dc:subject/>
  <dc:title>WRITE Now:  (1) Take out a piece of paper to take notes on.  Label it with the date (1/29).  (2) The paragraph below is TERRIBLE.  Find the obvious errors and write corrections in your notes.  (There may be more than one way to correct an error.) </dc:title>
</cp:coreProperties>
</file>